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8109-1A36-4FEF-AAB1-3CD003608C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– Amount of stuff (atoms/molecules) in an object. Measured in k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– Measures the gravitational pull on something.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s Gravitational Field Strength – 10N/kg. (The gravitational field strength at the surface of the Earth produces a force of approximately     10 N on every mass of 1 kg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– Amount of stuff (atoms/molecules) in an object. Measured in k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– Measures the gravitational pull on something.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s Gravitational Field Strength – 10N/kg. (The gravitational field strength at the surface of the Earth produces a force of approximately     10 N on every mass of 1 kg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gravitational force makes the ball move down towards the centre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’s gravitational force makes the Earth move in an orbit around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gravitational force makes the ball move down towards the centre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’s gravitational force makes the Earth move in an orbit around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– Is a measure of force pulling something to the ground due t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– Is a measure of force pulling something to the ground due t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(gravitational field strength) = force /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Mass x g (gravitational field strengt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(gravitational field strength) = force /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Mass x g (gravitational field strengt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8709-B7EE-42BD-9437-DA337A4A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C55B-E46D-4DB5-87B5-63D2738C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73E3-F15F-4263-B883-8B866A1F8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DC98-2F7C-484D-84F1-D68DF9962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929E-BF5B-4D85-AAB7-EBF4A712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A801-C030-4701-BFDC-C1FE7DB7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E6F3-47A4-4A31-970A-F7BDB727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AE4F-2F4B-4584-84FF-C92F6606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FB3F-B7BA-4159-B21A-D58C0A20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7014-648C-476E-A3A2-61539289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BFC5-E95B-4709-A5D3-474062D2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AC3A-9E9F-4DC9-8D0E-23A560EE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B783-1491-46F9-9E08-36E86E65E2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Ma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Amount of stuff (atoms/molecules) in an object. Measured in k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For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Measures the gravitational pull on something. Measured in N (newt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arths 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10N/kg. (The gravitational field strength at the surface of the Earth produces a force of approximately     10 N on every mass of 1 k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2832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5257800" y="1676520"/>
            <a:ext cx="3438360" cy="2981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228600" y="54864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arth’s gravitational force makes the ball move down towards the centre of the Ear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648320" y="48006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n’s gravitational force makes the Earth move in an orbit around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pple ha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ss (k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gets pulled to the ground at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is can be measured in Newt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arth’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ulls the apple toward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818B16FC66D44386927D789A9280BA5D"/>
          <p:cNvPicPr/>
          <p:nvPr/>
        </p:nvPicPr>
        <p:blipFill>
          <a:blip r:embed="rId1"/>
          <a:stretch/>
        </p:blipFill>
        <p:spPr>
          <a:xfrm>
            <a:off x="5003640" y="1628640"/>
            <a:ext cx="3529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Is a measure of force pulling something to the ground due to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pple ha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ss (k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gets pulled to the ground at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is can be measured in Newtons) =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arth’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ulls the apple toward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818B16FC66D44386927D789A9280BA5D"/>
          <p:cNvPicPr/>
          <p:nvPr/>
        </p:nvPicPr>
        <p:blipFill>
          <a:blip r:embed="rId1"/>
          <a:stretch/>
        </p:blipFill>
        <p:spPr>
          <a:xfrm>
            <a:off x="5003640" y="1628640"/>
            <a:ext cx="3529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826920" y="5157720"/>
            <a:ext cx="39610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= force /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ight = Mass x g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0:34:30Z</dcterms:created>
  <dc:creator>CEC</dc:creator>
  <dc:description/>
  <dc:language>en-US</dc:language>
  <cp:lastModifiedBy>RomaK</cp:lastModifiedBy>
  <dcterms:modified xsi:type="dcterms:W3CDTF">2015-09-03T12:31:07Z</dcterms:modified>
  <cp:revision>8</cp:revision>
  <dc:subject/>
  <dc:title>The story so far…… </dc:title>
</cp:coreProperties>
</file>